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istle.wav" ContentType="audio/x-wav"/>
  <Override PartName="/ppt/media/train.wav" ContentType="audio/x-wav"/>
  <Override PartName="/ppt/media/CAMERA.WAV" ContentType="audio/x-wav"/>
  <Override PartName="/ppt/media/image4.wmf" ContentType="image/x-wmf"/>
  <Override PartName="/ppt/media/image5.png" ContentType="image/png"/>
  <Override PartName="/ppt/media/image3.wmf" ContentType="image/x-wmf"/>
  <Override PartName="/ppt/media/wee.wav" ContentType="audio/x-wav"/>
  <Override PartName="/ppt/media/moo.wav" ContentType="audio/x-wav"/>
  <Override PartName="/ppt/media/TYPE.WAV" ContentType="audio/x-wav"/>
  <Override PartName="/ppt/media/tigg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975-18C6-49DB-A80A-93AB215E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32F-7769-45F1-B603-29692791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FD4-F1A9-44C5-9F80-F5049090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425-4A7E-4E8D-9D53-1C5E23AB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8B5-9DD6-4876-A50F-32A6E460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266-23A5-4660-AA70-74C940EA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F74-C635-4B76-9FD2-7184844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6F5-F3F2-4BB0-9866-8AC79258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785-77EC-4D2D-BE65-8392A3B9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B05-AE61-4158-B3AF-A07DA4B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4DD-1969-4A05-B16B-A2E0162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895-5A7D-499A-872E-64702AD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7864-43B8-450F-B648-F4FA99E9D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rain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train.wav"/><Relationship Id="rId4" Type="http://schemas.openxmlformats.org/officeDocument/2006/relationships/audio" Target="../media/we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moo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igge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Created by 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oh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45" name="Picture 8" descr="clown"/>
          <p:cNvPicPr/>
          <p:nvPr/>
        </p:nvPicPr>
        <p:blipFill>
          <a:blip r:embed="rId2"/>
          <a:stretch/>
        </p:blipFill>
        <p:spPr>
          <a:xfrm>
            <a:off x="1219320" y="251460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A sentence has two parts.  It has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subject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 and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predicate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245592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666880" y="12193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names who the sentence is about.</a:t>
            </a: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pic>
        <p:nvPicPr>
          <p:cNvPr id="53" name="Picture 6" descr="tigrrr"/>
          <p:cNvPicPr/>
          <p:nvPr/>
        </p:nvPicPr>
        <p:blipFill>
          <a:blip r:embed="rId2"/>
          <a:stretch/>
        </p:blipFill>
        <p:spPr>
          <a:xfrm>
            <a:off x="7086600" y="2590920"/>
            <a:ext cx="144612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80880" y="36576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redicate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ells what they did.</a:t>
            </a:r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g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Jester"/>
              </a:rPr>
              <a:t>Put the sentence parts together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Jester"/>
              </a:rPr>
              <a:t>Put the sentence parts together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828800" y="28954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200400" y="28954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429000" y="40384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0" name="Line 15"/>
          <p:cNvSpPr/>
          <p:nvPr/>
        </p:nvSpPr>
        <p:spPr>
          <a:xfrm flipV="1">
            <a:off x="2209680" y="403812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2362320" y="5790960"/>
            <a:ext cx="1904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28954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22860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2:13:23Z</dcterms:created>
  <dc:creator>Thomas Pohlman</dc:creator>
  <dc:description/>
  <dc:language>en-US</dc:language>
  <cp:lastModifiedBy>Laura McDow</cp:lastModifiedBy>
  <dcterms:modified xsi:type="dcterms:W3CDTF">2010-08-26T00:24:32Z</dcterms:modified>
  <cp:revision>14</cp:revision>
  <dc:subject/>
  <dc:title>No Slide Title</dc:title>
</cp:coreProperties>
</file>